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C09-B51C-420B-BBDE-C4091480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A525-BD84-4C9D-86EF-30A177A6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42E0-6E90-41C0-9C1F-6BB3EDDE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F9E-2338-49B1-AD25-069BD2E4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A5C-47EC-4D3E-81E4-F809EB59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43EA-774B-4DFF-AA07-7E04CC18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8BB-A57F-4B1F-92F8-0D8DB970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B0E-4AB4-4D60-8C6E-F8914845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3226-0C78-43E6-B17D-0CA0CE98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34B-624A-4082-8732-FE541185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9ED-3624-4BA7-B445-E136BA83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C4E-03F8-421A-9AE5-BC240FC4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pter 2 - </a:t>
            </a:r>
            <a:fld id="{4FCB2B72-C905-428A-8C46-D1CD497E505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mmunicatin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 Teams and Mastering Listening and Nonverbal Communication Skill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C68F-63F2-42CE-9019-3CF96536F19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eam Evolu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inforc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522-EA93-4F89-92E0-5E449D15E4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ources of Team Conflic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rce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responsi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ompatible ide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or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itudes and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strugg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licting go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FE0-E81E-4BA0-ACF8-AE5FD155B62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s of Conflic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 (win-wi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se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sts involv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s ide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tructive (win-lose, or lose-lo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erts ener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roys mor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s the te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1C6-6928-4751-B234-033823E725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solving Conflic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r pl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i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903-6DCB-46AE-B827-F17B3F5730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vercoming Resistanc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 understan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ng resistance into the op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e objections fair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hold argu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9A3-9CDC-4109-B098-143E9025D6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tiquette in Team Sett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workpl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social sett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752480"/>
            <a:ext cx="82296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2054-9EBA-4AC6-83ED-13431BABB4C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orkplace Etiquett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rance and groo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enuine sm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ephone sk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EBA4-7467-4107-9A6D-6991121D0DF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tiquette in Social Sett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impres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introdu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ning etiquet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use of mobile ph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appropriate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0CD-E069-45ED-AE10-61BC03F332A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oductive Meet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A8A-96DD-4861-BBA4-99DD4BF65C2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eparing for Meet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on the purpo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 participa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ose the lo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and follow an 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93E-81C1-42FB-A0ED-FD301DBA605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mproving Your Performance in Team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or more peo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 mission/responsi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toward a go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tt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k forces and problem-solving te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DD3B-0379-4E7C-8695-3B67841EAAD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eading and Participat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y on tra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llow the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ote particip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cipate active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effective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065-8B71-4063-8BE3-D98514E3E18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eting Technologi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rtual te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rtual meet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p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96C-EE26-49A3-9201-82448D4DC82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mproving Listening Skill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engthen relationsh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dite product deli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light opportun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 workplace divers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 foundation for tru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hance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50F2-D9EC-40E5-B8A7-A923885740C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s of Listen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 liste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liste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athetic liste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BD4A-3638-40C4-B36F-DD98AF1943B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e Listening Proces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eiv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od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embe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34F9-4646-4A98-855C-553F58ECFD0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arriers to Listen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ve liste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 attention sp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judgment and defensive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ttle common gro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barrier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C38-742D-47FF-9C66-5A427B9B2AA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Nonverbal Commun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ment verbal 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eal the tru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y information efficient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F3B-FEA8-4600-A7DC-1AF79820F36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ecognizing Nonverbal Communica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ial expres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stures and pos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cal characteris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appear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uching behavi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time and sp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D4D7-0EB5-4938-884A-8A93551D737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Maximizing Nonverbal Communication Skill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facial expres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 gestures and pos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for vocal characteris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gnize physical appear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careful with physical cont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 use of time and sp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752480"/>
            <a:ext cx="82296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B6D-3DE2-4F54-9121-993FA1D042A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3200"/>
            <a:ext cx="4114800" cy="34290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2743200"/>
            <a:ext cx="4114800" cy="34290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Overview of Tea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752480"/>
            <a:ext cx="4114800" cy="99072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3157560"/>
            <a:ext cx="4013280" cy="26528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inform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ty of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ing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752480"/>
            <a:ext cx="4114800" cy="99072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157560"/>
            <a:ext cx="4114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th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den agen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r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60A0-9925-42CE-8CCF-50408E23B53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haracteristics of Effective Team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r objec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se of purpo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 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nsus decision ma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ve thin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lict re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71E-60B0-4B27-891C-BE44BD5EBF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llaborative Writing Guideline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 members careful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ree on project 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time to bo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rify individual responsib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EAB-7042-4CFC-A134-80BFDB4549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llaborative Writing Guideline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clear proc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oid group wri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sure compat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 progress of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55E7-B570-47BE-9AA0-CD59A06ADB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llaborative Writing Technologie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sites more contr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kis more flex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8D0A-3F57-4573-8096-54BBBA7B8C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oup Dynami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s that team members assu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se of team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ccess in resolving confli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ccess in overcoming resis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9472-3C17-49A4-AA40-6312C85C56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ssuming Team Rol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f-ori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ling, withdrawing, diverting, seeking atten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-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uraging, harmonizing, compromi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-ori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ing, information giving or seeking, coordinating, procedure set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BE7-BF69-4E34-B8B9-75A2DDF4B7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17:01:18Z</dcterms:created>
  <dc:creator>Myles A. Hassell</dc:creator>
  <dc:description/>
  <dc:language>en-US</dc:language>
  <cp:lastModifiedBy>ulullas</cp:lastModifiedBy>
  <dcterms:modified xsi:type="dcterms:W3CDTF">2007-08-30T13:14:13Z</dcterms:modified>
  <cp:revision>233</cp:revision>
  <dc:subject>Business Communication Today, 9e</dc:subject>
  <dc:title>Communicating in Teams and Mastering Listening and Nonverbal Communication Skills</dc:title>
</cp:coreProperties>
</file>